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036-44C9-4535-808D-9155EA66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08F-3BF4-4435-B3E4-D7E818D3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B67-4967-459B-9381-43C6AB0C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10D-E85B-4095-8523-967FF6D4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A5E-690C-489D-803E-D52C16BE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8B36-C6F0-4886-9513-2D1455E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F82-7A54-42BE-9826-A8D0DAD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DC34-BD5D-4A7A-981A-C79CE93B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9999-DB77-41FE-8283-595F6E0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4854-38D2-41D0-9699-A3462E81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FCAF-87B7-4093-82E3-EB05E0DE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A3B-B47C-4A3E-A02A-507178F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477E-4DBD-4DAA-900C-53CB107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EAD-4353-4EC0-815C-0FA4E4E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E8A-13B0-47F3-B276-1C4260D0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6B6D-767A-444B-A873-B2BFCEE8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02D1-02AE-4F49-B07C-FBF2FA6A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6A5-E2F2-4FC5-BC65-75B00EA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5CB-13C5-4739-828F-DB4D1E3B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2E3-D465-438E-A176-50615130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303-F25F-4AD6-8968-5ACEBA91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E01-3F06-4ED1-8BCF-6CA26DF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F39-BC32-41FE-A60F-25CF25E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F2C-3801-438E-82EC-2329009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42884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77156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771560" indent="-228600">
              <a:spcBef>
                <a:spcPts val="15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771560" indent="-228600">
              <a:spcBef>
                <a:spcPts val="15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505F-DA4C-4906-8A0D-A48D1906203C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9623-28EC-43DD-ADC0-2895C8B196DB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pter Five Review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ptember 28, 2007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8) Explain impression management theor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ks to explain how people work to project a positive self-imag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nt to be perceived as credib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gaging in impression management is persuas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include facework (negotiating social standing with other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) Why do persuasion researchers avoid the term charisma in favor of ethos or credibility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isma is term that many people use to describe an indefinable charm or allu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isma has no clear precise mean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thos or credibility can be defined and measur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) In the chapter, credibility is decribed as a receiver-based construct, a multidimensional construct, a situational/contextual phenomenon, and as being dynamic.  Explain each of these descriptors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eiver-based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is a perceptual phenomen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t does not reside in the sour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ifferent people perceive different indivduals’ credibility differently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ultidimension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represents a composite of several characteristics that receivers perceive in a sour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Question 2 continued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tuational/contextu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changes are you move from one context to anoth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can change over tim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t fluctuates from audience to audience, situation to situ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) Explain the primary dimensions of credibilit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pertise (competence or qualification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nowing your material or appearing to know 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ustworthiness (character, safety, goodwill, personal integrity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ppears hones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ppears to have your best interests at hear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) Explain the secondary dimensions of credibilit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troversion (dynamism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intain the appropriate level of energy to the situ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pos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urce remains calm, cool, collect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ciabi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iendliness or likeabi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spir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w enthusiastic or energetic the source makes oth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5) Describe the absolute sleeper effect and the relative sleeper effect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rst: persuasive messages fade as time pas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message from a low credibility source may increase in persuasiveness as time pas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solute  sleeper effect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lative sleeper effect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phenomenon is inconsistent and not well understoo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6) Discuss at least three of the nine strategies you can use to enhance your credibility.  Include analysis of the types of listener or audience each would be effective for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e prepar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ite evidence and identify your sour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plain your background and experti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ttempt to build trust by showing you have the receivers’ best interest at hear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ppropriate language and deliver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e assertiv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mphasize your similarities to the receiv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crease receiver involveme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ave another credible source introduce your or endorse you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7) Explain the two basic types of strategies used in restoring an institution’s credibilit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cu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essen responsibility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act wasn’t that ba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47:09Z</dcterms:created>
  <dc:creator>nuhs</dc:creator>
  <dc:description/>
  <dc:language>en-US</dc:language>
  <cp:lastModifiedBy>nuhs</cp:lastModifiedBy>
  <dcterms:modified xsi:type="dcterms:W3CDTF">2007-09-28T17:31:04Z</dcterms:modified>
  <cp:revision>4</cp:revision>
  <dc:subject/>
  <dc:title>Chapter Five Review</dc:title>
</cp:coreProperties>
</file>